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1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D362-7435-4E87-9304-B2A4A4DB6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ÉANT2 Testbed used for FABRIC throughput tests: RHJ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AN Demos success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the last P2P meeting GÉANT2 P2P services were quit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established and used for many applications: HEP, Supercomputing and Radio Astronomy…et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provide 10Gbps wavelengths and GE circuits (the latter almost ‘on deman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European countries have international P2P connectivity via GÉAN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x Transatlantic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1680" y="380160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20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24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680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168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24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680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1320" y="142560"/>
            <a:ext cx="56214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820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1680" y="380160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820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8924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7680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168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8924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7680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1320" y="142560"/>
            <a:ext cx="56214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20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1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sp>
          <p:nvSpPr>
            <p:cNvPr id="1" name=""/>
            <p:cNvSpPr/>
            <p:nvPr/>
          </p:nvSpPr>
          <p:spPr>
            <a:xfrm>
              <a:off x="0" y="5950080"/>
              <a:ext cx="9144000" cy="90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542880" y="6024600"/>
              <a:ext cx="165564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5943600"/>
              <a:ext cx="9144000" cy="0"/>
            </a:xfrm>
            <a:prstGeom prst="line">
              <a:avLst/>
            </a:prstGeom>
            <a:ln w="22320">
              <a:solidFill>
                <a:srgbClr val="9c8d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15354" t="4987" r="25172" b="25197"/>
          <a:stretch/>
        </p:blipFill>
        <p:spPr>
          <a:xfrm>
            <a:off x="8164440" y="0"/>
            <a:ext cx="979560" cy="647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rcRect l="3617" t="0" r="18233" b="8661"/>
          <a:stretch/>
        </p:blipFill>
        <p:spPr>
          <a:xfrm>
            <a:off x="6192720" y="0"/>
            <a:ext cx="986040" cy="6494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rcRect l="15871" t="11286" r="18085" b="11286"/>
          <a:stretch/>
        </p:blipFill>
        <p:spPr>
          <a:xfrm>
            <a:off x="7178760" y="0"/>
            <a:ext cx="985680" cy="649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192720" y="844560"/>
            <a:ext cx="2951280" cy="0"/>
          </a:xfrm>
          <a:prstGeom prst="line">
            <a:avLst/>
          </a:prstGeom>
          <a:ln w="22320">
            <a:solidFill>
              <a:srgbClr val="9c8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6192720" y="1092240"/>
            <a:ext cx="2951280" cy="0"/>
          </a:xfrm>
          <a:prstGeom prst="line">
            <a:avLst/>
          </a:prstGeom>
          <a:ln w="22320">
            <a:solidFill>
              <a:srgbClr val="9c8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219720" y="853920"/>
            <a:ext cx="292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nect. Communicate. Collabo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6"/>
          <a:stretch/>
        </p:blipFill>
        <p:spPr>
          <a:xfrm>
            <a:off x="7299360" y="5996160"/>
            <a:ext cx="1295280" cy="81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5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3040" y="141120"/>
            <a:ext cx="2335320" cy="95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92720" y="844560"/>
            <a:ext cx="2951280" cy="0"/>
          </a:xfrm>
          <a:prstGeom prst="line">
            <a:avLst/>
          </a:prstGeom>
          <a:ln w="22320">
            <a:solidFill>
              <a:srgbClr val="9c8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92720" y="1092240"/>
            <a:ext cx="2951280" cy="0"/>
          </a:xfrm>
          <a:prstGeom prst="line">
            <a:avLst/>
          </a:prstGeom>
          <a:ln w="22320">
            <a:solidFill>
              <a:srgbClr val="9c8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15354" t="4987" r="25172" b="25197"/>
          <a:stretch/>
        </p:blipFill>
        <p:spPr>
          <a:xfrm>
            <a:off x="8164440" y="0"/>
            <a:ext cx="979560" cy="647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rcRect l="3617" t="0" r="18233" b="8661"/>
          <a:stretch/>
        </p:blipFill>
        <p:spPr>
          <a:xfrm>
            <a:off x="6192720" y="0"/>
            <a:ext cx="986040" cy="649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rcRect l="15871" t="11286" r="18085" b="11286"/>
          <a:stretch/>
        </p:blipFill>
        <p:spPr>
          <a:xfrm>
            <a:off x="7178760" y="0"/>
            <a:ext cx="985680" cy="649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219720" y="853920"/>
            <a:ext cx="292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nect. Communicate. Collabo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sp>
          <p:nvSpPr>
            <p:cNvPr id="58" name=""/>
            <p:cNvSpPr/>
            <p:nvPr/>
          </p:nvSpPr>
          <p:spPr>
            <a:xfrm>
              <a:off x="0" y="5950080"/>
              <a:ext cx="9144000" cy="90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542880" y="6024600"/>
              <a:ext cx="165564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0" y="5943600"/>
              <a:ext cx="9144000" cy="0"/>
            </a:xfrm>
            <a:prstGeom prst="line">
              <a:avLst/>
            </a:prstGeom>
            <a:ln w="22320">
              <a:solidFill>
                <a:srgbClr val="9c8d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7299360" y="5996160"/>
            <a:ext cx="1295280" cy="815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ÉANT2 Upda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25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Chevers, D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N-NREN Meeting, Bon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pt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ÉANT2 and eVLBI: 200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 European telescopes connected by GÉANT2 GE circui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cin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drel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mbridg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r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us Westerb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2627280" cy="197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916360" y="2349360"/>
            <a:ext cx="1554120" cy="2305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4788000" y="227664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7524720" y="2349360"/>
            <a:ext cx="1292400" cy="1944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3492360" y="4869000"/>
            <a:ext cx="14400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uture Possibilities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re EU telescop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l science with Chinese telescopes over ORI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 circuits to US telescop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BRIC test circu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227640" y="1916280"/>
            <a:ext cx="252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CE Top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0" y="5950080"/>
            <a:ext cx="855720" cy="907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386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12000" y="1844640"/>
            <a:ext cx="28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IN2 Top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n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067280" y="5961240"/>
            <a:ext cx="1728720" cy="896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6572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VN-NREN GÉANT2 Upd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1680" y="1457280"/>
            <a:ext cx="854064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GÉANT2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European R&amp;E Networking Mode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th generation of pan-European research network infrastructure – continuation of a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partners include 30 of Europe’s national research and education networks (NRENs), DANTE and TER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s 34 European countries and serves over 3500 research and education establishments across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30 million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extensive international connectivity to other world reg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ded jointly by NRENs and European Com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timescale September 2004 - August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6360" y="2209680"/>
            <a:ext cx="285444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marL="361800" indent="-361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ÉANT2 Top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5636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2P Circui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21036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at Does GÉANT+ Mean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re-provisioned network of lit p2p circu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Gbps IP access and 10Gbps circu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ickly configurable GE circuits on existing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556000" y="2781360"/>
            <a:ext cx="30286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2P Statist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9 circuits so far….orders arrive regul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268360"/>
            <a:ext cx="91440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2P Custom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332080"/>
            <a:ext cx="91440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-243000"/>
            <a:ext cx="56214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lobal Upd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IN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buntu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UMEDCONNECT –2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ICE -2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ÉANT3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-11329" r="21883" b="0"/>
          <a:stretch/>
        </p:blipFill>
        <p:spPr>
          <a:xfrm>
            <a:off x="3959280" y="2205000"/>
            <a:ext cx="518472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2:48:29Z</dcterms:created>
  <dc:creator>john</dc:creator>
  <dc:description/>
  <dc:language>en-US</dc:language>
  <cp:lastModifiedBy>john</cp:lastModifiedBy>
  <dcterms:modified xsi:type="dcterms:W3CDTF">2007-09-19T05:27:55Z</dcterms:modified>
  <cp:revision>14</cp:revision>
  <dc:subject/>
  <dc:title>GÉANT2 Update</dc:title>
</cp:coreProperties>
</file>